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640-E6ED-43F5-9E2F-856846F7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47E-3ABB-469A-AE25-F008A402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7BE-0705-4FF9-B2E8-9AC99A8E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19A-FEA8-487E-903C-E2605C3C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DDE-2904-4519-96C1-5E53B61C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9FF2-253B-4DC8-8A71-115EC5B1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468E-57D1-4C70-8687-8AC6F065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DE5D-1A05-4132-857B-E8D88240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57C9-5E85-4650-8EB2-E4E0D776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EBA3-41CE-4D1D-A293-694C3A50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368-54C9-46E2-9FF9-1AEAB27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2C5-3DD2-454A-BEF2-47427EB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3B1A-A13B-4345-95B7-7EB40D6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053B-667D-4E2E-881B-4152FD30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7B3B-B535-42E2-9BA4-B4797CE4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9C98-87B0-48DF-94FF-4AC8ADB9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19E8-F054-4788-8D7B-35578C1F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CEF-130F-41E2-96CA-EF88206E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5B3C-B2A3-42A7-A313-696579B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E7F-0045-4AB0-B453-CFC546D6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990-4BFA-473B-B01B-E3DF78D0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CF8-2D8F-45CD-9714-84D64DD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470-F029-4CE9-A2B0-37152E3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68B-A93D-414E-9EE9-7BD235E5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4DF3-ECD4-437E-929D-A57368FC1B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DEDE-4FBA-4728-BCB1-E8C81DA03A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Hebrews and Hykso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ew Kingdom (1550-1100 B.C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mose became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haraoh of New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aded and conquered other lands; expanded Egypt’s emp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st period of Egyptian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532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es: Hebrew child brought up in Pharaoh’s househ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 great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to become a shephe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spoke from a burning bush, calling Moses to return to Egypt and free his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37465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Amenhotep II at first refused to free slaves, so God sent 10 plagues on the Egyp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029200" y="2689200"/>
            <a:ext cx="3733920" cy="37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62120" y="3200400"/>
            <a:ext cx="396216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Water turned to bl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Fro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Flies/ Wild Anim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iseased livesto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Boi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Hail and Thu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Locu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ark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ahoma"/>
              </a:rPr>
              <a:t>Death of firstbor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nhotep agreed to let Hebrews go, but changed his mind and chased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allowed Hebrews to part through Red Sea on dry land, but Pharaoh’s army drow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00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’s jealous brothers sold him into slavery in Egyp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ught by Potiphar (captain of the Pharaoh’s guar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430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iphar put Joseph in charge of everything, until P’s wife told a lie that got Joseph thrown into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021280" y="1371600"/>
            <a:ext cx="39895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was put in charge of pri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interpreted the Pharaoh’s dreams for him, telling him that a famine was co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038480" y="159984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(Sesostris II) made Joseph h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vizi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command of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seph helped store up crops, act as judge, and collected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3400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osep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Joseph’s brothers came to buy food, he forgave them for mistreating hi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d rewarded Joseph for being faith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42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years were not peace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ksos: group that attacked Egypt and took whatever they wa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rse-drawn chariot: new weapon invented by Hyksos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42670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30 B.C.: Hyksos conquered Egypt; tried to act like Egypti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brews (Joseph’s descendants) became powerful and held important pos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ksos forced Hebrews into slavery b/c they were afraid the Hebrews would take o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the 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mose (Egyptian prince) raised an army and drove out Hyksos, but did not free the Hebr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57913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3:18:15Z</dcterms:created>
  <dc:creator>erin.hendricks</dc:creator>
  <dc:description/>
  <dc:language>en-US</dc:language>
  <cp:lastModifiedBy>erin.hendricks</cp:lastModifiedBy>
  <dcterms:modified xsi:type="dcterms:W3CDTF">2011-09-19T19:37:30Z</dcterms:modified>
  <cp:revision>3</cp:revision>
  <dc:subject/>
  <dc:title>Hebrews and Hyksos</dc:title>
</cp:coreProperties>
</file>